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0CD-31A6-485C-9486-E3EBC622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F12-5081-4900-9B38-6BB9BE53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01B-0F6D-4323-9FDA-781DF3EB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9DF-2EEF-4799-A629-9A9AB22C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05A6-4516-4E49-83A4-EB8B27B4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AF34-560B-44AD-99B9-275FE6E4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20B2-B598-4360-8124-03C49CA4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0BDF-E6F3-4B04-ABFA-570EAFC6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9064-2A42-4141-B890-4DF098ED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1739-6C7A-4EFF-A2BC-19F2ADDA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EE2D-8314-46AB-873C-916A248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9F3-21F6-4C31-B4FB-93647BCE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CCE1-C5A6-43B1-A297-399C24B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F74F-E901-47F4-8DF2-615C55FD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7416-FD3E-4B85-88AD-BA7D3579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532B-5658-4C55-81B8-207317B3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FACF-881D-492F-AB36-65B23B47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AA5-644B-4309-9E53-2616D018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EE0-871B-49BA-B681-B8549035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1A7-4B71-40BC-979B-EA72512A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B47-587B-4B26-AEE2-FA1DF279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B93-21A7-422B-AB90-27AE7AB8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D7F-605F-4AAA-9A87-5A86D0D7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AEA-3273-486F-B04C-F035422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8B61-9A67-4E13-87F7-269B8C10A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6169-A159-4A2F-9EF0-F7FCD3F039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755720" y="1219320"/>
            <a:ext cx="5559480" cy="1925640"/>
          </a:xfrm>
          <a:prstGeom prst="rect">
            <a:avLst/>
          </a:prstGeom>
          <a:ln w="0">
            <a:noFill/>
          </a:ln>
        </p:spPr>
      </p:pic>
      <p:pic>
        <p:nvPicPr>
          <p:cNvPr id="83" name="Подзаголовок 2" descr=""/>
          <p:cNvPicPr/>
          <p:nvPr/>
        </p:nvPicPr>
        <p:blipFill>
          <a:blip r:embed="rId2"/>
          <a:stretch/>
        </p:blipFill>
        <p:spPr>
          <a:xfrm>
            <a:off x="1158840" y="1736640"/>
            <a:ext cx="6746760" cy="2274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4" descr=""/>
          <p:cNvPicPr/>
          <p:nvPr/>
        </p:nvPicPr>
        <p:blipFill>
          <a:blip r:embed="rId1"/>
          <a:stretch/>
        </p:blipFill>
        <p:spPr>
          <a:xfrm>
            <a:off x="609480" y="469800"/>
            <a:ext cx="7851960" cy="3700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" descr=""/>
          <p:cNvPicPr/>
          <p:nvPr/>
        </p:nvPicPr>
        <p:blipFill>
          <a:blip r:embed="rId2"/>
          <a:stretch/>
        </p:blipFill>
        <p:spPr>
          <a:xfrm>
            <a:off x="2552760" y="4191120"/>
            <a:ext cx="3962520" cy="2492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істеу керек? 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ға бірнеше қарапайым шындықты жылы және сеніммен жеткізу керек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2819520" y="3195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14400" y="761760"/>
            <a:ext cx="72388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ың мектепке оның қажет және қатаң міндеттердің бірі болғандықтан емес, тек жаңа білім мен дағдылардың арқасында ғана ол болашақта мықты (табысты, ақылды, құрметті) тұлға бола алатындығына байланысты екенін түсіндіру қа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504960" cy="28954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838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р зейінді мектептегі жаңа атрибуттардың сыртқы әсемдігіне емес - әдемі формаға, портфель, қарындашқа ...</a:t>
            </a:r>
            <a:br>
              <a:rPr sz="24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зар аудармай, мектептің балаға беретін жаңа қызықты жаңалықтары мен әсерлеріне назар аударған жө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3"/>
          <a:srcRect l="0" t="13005" r="0" b="0"/>
          <a:stretch/>
        </p:blipFill>
        <p:spPr>
          <a:xfrm>
            <a:off x="2590920" y="4148280"/>
            <a:ext cx="3657600" cy="2385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3520" y="533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кесі мен анасы үшін жұмыс қаншалықты маңызды болса, бала үшін мектеп те маңызды және жауапты орын екенін ұғындыру керек. 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ер бала мектеп ересек болудың алғашқы баспалдағы екенін түсінсе т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пт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ақ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2971800" cy="264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66680" y="76176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шкентай мектеп оқушысы енді ақымақ бала емес, ол - өз жұмысымен айналысатын, құрметке лайық а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7000"/>
              </a:lnSpc>
              <a:spcBef>
                <a:spcPts val="70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a3128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2"/>
          <a:srcRect l="21580" t="0" r="20336" b="0"/>
          <a:stretch/>
        </p:blipFill>
        <p:spPr>
          <a:xfrm>
            <a:off x="2743200" y="3200400"/>
            <a:ext cx="3124080" cy="3056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6:19Z</dcterms:created>
  <dc:creator>Елена</dc:creator>
  <dc:description/>
  <dc:language>en-US</dc:language>
  <cp:lastModifiedBy>User</cp:lastModifiedBy>
  <dcterms:modified xsi:type="dcterms:W3CDTF">2021-03-12T07:43:19Z</dcterms:modified>
  <cp:revision>52</cp:revision>
  <dc:subject/>
  <dc:title>Презентация PowerPoint</dc:title>
</cp:coreProperties>
</file>