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DD8-3BFB-4541-862F-2E9E3427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F95-D121-4071-B5DF-49CE9243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AD4-7F29-4C74-85D5-1EAAA956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22A-F5B4-4F10-B3E1-69BF845A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1F61-026E-41F0-A7CA-D4B72EAA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1EBB-6B91-4B58-BA85-4A4849D1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09AB-5CC2-45D1-B035-EB84970C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5C52-9A68-4BC2-8E58-8F3E6199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1512-7066-481D-B15B-66A8CFB1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94BC-1522-4F51-B8A8-DEB8D755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C19E-A6A0-4DB8-858D-9EF5DC8C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233-A2A0-4F62-A900-14A47EBE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A66D-5DD5-426D-8F52-B3A3AA4C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052D-C323-4765-9BED-0E432CEC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4243-7344-40E5-8CEF-82ABBC4D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6EE3-A435-4D1F-B4C9-C55408A6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CC94-CA94-412F-8A0E-2E4E9761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3B7-642F-477B-8543-95087384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2D5-3DA0-4AE2-A519-1414B9B2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C45-6B6C-4C8F-8CFA-6A55AE8D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C37-E6E7-4A4E-9D1E-A57035D7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676-1CEC-4C53-873C-3A7854BF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166-E9AC-4FCC-A88B-37D6296B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D6F-2A5B-4E09-8E2B-FF254265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FF31-10C5-4168-B407-F7D0380E98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3AAB-A627-4147-B508-AC304BDF49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04836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kk-KZ" sz="2800" spc="-1" strike="noStrike">
                <a:solidFill>
                  <a:srgbClr val="4f6228"/>
                </a:solidFill>
                <a:latin typeface="Times New Roman"/>
                <a:ea typeface="Calibri"/>
              </a:rPr>
              <a:t>Құрметті ата-аналар, сіздің балаңыз мектепке баратын күн де жақындап қалды. Баланың мектеп өміріне бейімделуі жеңіл болуы үшін, сіз болашақ оқушыны бүгіннен бастап даярлай аласыз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0560" y="836280"/>
            <a:ext cx="619308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kk-KZ" sz="3200" spc="-1" strike="noStrike">
                <a:solidFill>
                  <a:srgbClr val="0d0d0d"/>
                </a:solidFill>
                <a:latin typeface="Times New Roman"/>
                <a:ea typeface="Calibri"/>
              </a:rPr>
              <a:t>Құрметті ата-аналар, сіздің балаңыз мектепке баратын күн де жақындап қалды . Қазір сіз үйде отырғанда оның даярлығымен айнылсатын кез. Болашақ оқушы мектеп өміріне жеңіл бейімделу үшін не білуі керек?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Calibri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62800" cy="1157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алпы әлеуметтік қабылдау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7680"/>
            <a:ext cx="83628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Өзінің атын, тегін, әкесінің аты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Өзінің неше жаста екені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Өз ата-анасының атын, тегін, әкесінің тегін (мемлекеттік тілде сөйлейтін балалар үшін нұсқа: «Өз анаңның, әкеңнің аты мен тегін айтшы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Анаң (әкең) кім болып жұмыс істейді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Қайда тұрады, өз мекен-жайы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білуі қаж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114800" y="2971800"/>
            <a:ext cx="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2"/>
          <a:srcRect l="0" t="0" r="0" b="6945"/>
          <a:stretch/>
        </p:blipFill>
        <p:spPr>
          <a:xfrm>
            <a:off x="5564160" y="368136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" descr=""/>
          <p:cNvPicPr/>
          <p:nvPr/>
        </p:nvPicPr>
        <p:blipFill>
          <a:blip r:embed="rId3"/>
          <a:stretch/>
        </p:blipFill>
        <p:spPr>
          <a:xfrm>
            <a:off x="7167600" y="3790800"/>
            <a:ext cx="727200" cy="8604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"/>
          <p:cNvPicPr/>
          <p:nvPr/>
        </p:nvPicPr>
        <p:blipFill>
          <a:blip r:embed="rId4"/>
          <a:stretch/>
        </p:blipFill>
        <p:spPr>
          <a:xfrm>
            <a:off x="7778880" y="3927600"/>
            <a:ext cx="490320" cy="585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5"/>
          <a:stretch/>
        </p:blipFill>
        <p:spPr>
          <a:xfrm>
            <a:off x="7748640" y="4897440"/>
            <a:ext cx="539640" cy="3031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6. Тәулік уақыттарын біліп, анықтау: таң не күн (күн не кеш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7. Жыл мезгілдерін білу – қыс, көктем, жаз, күз. Олардың негізгі сипаттарын біл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8. Ай мен апта күндерін білу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9. Қар неге жазда емес, қыста болатынын түсіндіре алу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10. Негізгі түс спекторларын біл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2" descr=""/>
          <p:cNvPicPr/>
          <p:nvPr/>
        </p:nvPicPr>
        <p:blipFill>
          <a:blip r:embed="rId1"/>
          <a:stretch/>
        </p:blipFill>
        <p:spPr>
          <a:xfrm>
            <a:off x="6576840" y="4508640"/>
            <a:ext cx="208944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75840" y="525600"/>
            <a:ext cx="83725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1. Әр түрлі мамандық иелері не істейтіні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2. Мектепте қоңырау, портфель, парта не үшін қажет екенін біл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3. Сабақ барысында және үзіліс кезінде не істейтінін біл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4. Кеңістікті бағдарлай алу: оң, сол, жоғары, төм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5. Жабайы, үй жануарларын және олардың төлдерін біліп, ажырата ал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16. Заттарды топтастыра алу (жиһаз, көлік, ыдыс-аяқ, киім, аяқ киім, көкеністер, жемістер және т.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6227640" y="4005360"/>
            <a:ext cx="2183040" cy="2636640"/>
          </a:xfrm>
          <a:prstGeom prst="rect">
            <a:avLst/>
          </a:prstGeom>
          <a:ln w="0">
            <a:noFill/>
          </a:ln>
        </p:spPr>
      </p:pic>
      <p:pic>
        <p:nvPicPr>
          <p:cNvPr id="99" name="Хор Новая волна - Первоклашки.mp3" descr=""/>
          <p:cNvPicPr/>
          <p:nvPr/>
        </p:nvPicPr>
        <p:blipFill>
          <a:blip r:embed="rId2"/>
          <a:stretch/>
        </p:blipFill>
        <p:spPr>
          <a:xfrm>
            <a:off x="4257720" y="5237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Елена</dc:creator>
  <dc:description/>
  <dc:language>en-US</dc:language>
  <cp:lastModifiedBy>User</cp:lastModifiedBy>
  <dcterms:modified xsi:type="dcterms:W3CDTF">2021-03-12T08:47:58Z</dcterms:modified>
  <cp:revision>36</cp:revision>
  <dc:subject/>
  <dc:title>Презентация PowerPoint</dc:title>
</cp:coreProperties>
</file>